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607-4E01-422A-8554-1CCC75A9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577-13D7-439B-B4C8-6DF830B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672-F570-4947-8658-B79E2F5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4B2-B763-4053-A771-A62B53E8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218-BA56-4956-B3AF-9A46889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9C2-355E-4F43-9BAE-A9EB5C1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FC2-97B6-48A8-A05A-BC757F18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CD0-EFA5-4297-AD75-C8C6AFFB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7F2-DB6E-4C25-829E-F5BBC86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906-D421-42E0-9328-F8F87D73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4AF-2E11-4895-B288-23EE5A0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D68-2A27-4E13-81AC-8CF8BC6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641-D0C7-4B76-A001-93DA51B1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CUADOR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is diverse and associated with agricultural conditions: pork, chicken and beef are pop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opular street food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nado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ing of potatoes served with roasted p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nes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fish soup, is often eaten during Lent and E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wide variety of fruit is also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ECUADOR: LOCATION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 is a country located in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is a continent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ivide America into three parts: North America, Central America and Sou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 is in the North Western part of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3938760"/>
            <a:ext cx="228600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0574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BORDERS AND PROVINCES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 is bordered by Colombia, Peru and by the Pacific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ntry also includes The Galapagos Islands in the Pa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 is divided into 24 provi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is the capital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n extension of 256000k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1333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18000" y="3938760"/>
            <a:ext cx="2498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LANDSCAPE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 has three main geographical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La Costa (the coast) in the western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LaSierra(the highlands): dominated by Los Andes mountain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La Amazonia, comprises the Amazon rainfores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lso has The Region Insular, comprising The Galapagos Islands in the Pacific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99120" y="3938760"/>
            <a:ext cx="293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cific coastal area has a tropical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mate in the Andean highlands is tempe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azon zone shares the climate of other rainforest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2104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81480" y="3938760"/>
            <a:ext cx="2895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561, the Spanish conquistadors, under Francisco Pizarro, arrived to Ecuador to find the Inca Emp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822 , Ecuador gained its independence from S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1979, Jaime Roldos, was elected president after a decade of civilian and military dictator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wadays, Ecuador is a democratic republic governed by Rafael Cor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3030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3938760"/>
            <a:ext cx="3047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uador’s natural sources include petroleum, fish, shrimp, timber and gold. In addition, it has a rich agriculture: bananas, cacao, sugar, coffe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0 Ecuadorian economy experienced a modest recovery; however, 70% of the population live below poverty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81560" y="1600200"/>
            <a:ext cx="277020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3938760"/>
            <a:ext cx="2209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uador’s population is ethnically diverse. It’s a plurinatio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rgest ethnic group is the mestizos (5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rindians account for around 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ollos account around a 1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o-Ecuadorians make up a 5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38680" y="3938760"/>
            <a:ext cx="1952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Approximately 95% of Ecuadorian are Roman Catholic and 4% Prote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In the rural parts of Ecuador, indigenous beliefs and Catholicism are sometimes syncre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228600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190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sgow Secondary Schools</cp:lastModifiedBy>
  <dcterms:modified xsi:type="dcterms:W3CDTF">2009-03-04T14:3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